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29.png" ContentType="image/png"/>
  <Override PartName="/ppt/media/image14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3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9311-6B95-4555-9135-43CF0E2FB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all rate/ SNP= # calls/ (# no-calls + # calls) = # indidvidus génotypés pr ce SNP / # total d’individ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all rate/ individu= # calls/ (# no-calls + # calls) = # SNPs génotypés pr cet individu / # total de SN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051C-11A6-4F3A-B3BB-0AA66DCE6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751F-94B3-42FC-B718-9212D089D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F1F8-5469-4ADF-B808-9382A7D8B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4898-4FB9-4376-B59C-819B98B6F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0765-2BE7-438F-9A51-10118230C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C11B-9D41-4F2C-A1E8-56D6521F2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D755-D5E4-4C86-BC7D-4809F3CD5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87A6-8995-4409-B495-D4A0E0C32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BB0D-8CEF-4BFC-AA29-0DE59CB06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ce catalogue génétique établi, nous trouvons des différences entre individus au niveau de l'ADN  comme indiqué par les lettres de couleurs différ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 zoomant sur la séquence d’ADN, on peut voir des différences entre individ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7038-9CA8-4648-AA1A-E50239666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2. Overview of SNP array technology. At the top is the fragment of DNA harboring an A/C SNP to be interrogated by the probe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In the Affymetrix assay, there are 25-mer probes for both alleles, and the location of the SNP locus varies from probe to probe. The DNA b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oth probes regardless of the allele it carries, but it does so more efficiently when it is complementary to all 25 bases (bright yellow) rather 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matching the SNP site (dimmer yellow). This impeded binding manifests itself in a dimmer sign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Attached to each Illumina bead is a 50-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 complementary to the sequence adjacent to the SNP site. The single-base extension (T or G) that is complementary to the allele carri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(A or C, respectively) then binds and results in the appropriately-colored signal (red or green, respectively). For both platforms,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tional algorithms convert the raw signals into inferences regarding the presence or absence of each of the two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4272-889A-4EE6-828A-D69621353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0858-5C37-4C03-B289-C793C287E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2357-7353-452E-AE55-CF5721F71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ECDE-958A-4E8A-AE08-EB11469C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4AC2-9FA6-48B5-B45E-BB71784E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132F-6767-4FA7-91FB-B7B76D94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432-87D4-4753-A832-AB056312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DBFE-5D1A-4B4A-A65F-A66EA5E8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00A-4DA5-4622-8928-A6EEA6CE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A84F-E9B9-4F24-B877-18408CC0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E2CE-F51E-498D-993A-8C2950D8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D9C3-E25B-49FE-A6B8-541A4F27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F3E-3188-4ED7-96C7-E02B0094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7EC-887C-4449-8458-472DF9D7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47B-FDF2-4BA5-A667-C777B5C6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2884-E86F-4B4B-BC8B-6274C569E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typic data: concepts and mea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6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biological problems that require math,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 ra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8"/>
          <p:cNvGrpSpPr/>
          <p:nvPr/>
        </p:nvGrpSpPr>
        <p:grpSpPr>
          <a:xfrm>
            <a:off x="611280" y="4724280"/>
            <a:ext cx="7542000" cy="833400"/>
            <a:chOff x="611280" y="4724280"/>
            <a:chExt cx="7542000" cy="833400"/>
          </a:xfrm>
        </p:grpSpPr>
        <p:pic>
          <p:nvPicPr>
            <p:cNvPr id="86" name="Picture 6" descr=""/>
            <p:cNvPicPr/>
            <p:nvPr/>
          </p:nvPicPr>
          <p:blipFill>
            <a:blip r:embed="rId1"/>
            <a:stretch/>
          </p:blipFill>
          <p:spPr>
            <a:xfrm>
              <a:off x="611280" y="4724280"/>
              <a:ext cx="5484600" cy="8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7" descr=""/>
            <p:cNvPicPr/>
            <p:nvPr/>
          </p:nvPicPr>
          <p:blipFill>
            <a:blip r:embed="rId2"/>
            <a:stretch/>
          </p:blipFill>
          <p:spPr>
            <a:xfrm>
              <a:off x="6083280" y="4795920"/>
              <a:ext cx="2070000" cy="66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 Box 9"/>
          <p:cNvSpPr/>
          <p:nvPr/>
        </p:nvSpPr>
        <p:spPr>
          <a:xfrm>
            <a:off x="468360" y="1700280"/>
            <a:ext cx="8064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chaque échantillon, le ratio entre le nombre de genotypes "called" (au dessus du seuil de détection) sur le nombre total de SN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rate= nombre de SNPs étant soit AA, BB ou AB sur le nombre total de SN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755640" y="595008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Ps avec un call rate &lt; 0.9 sont généralement supprimés de l'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95280" y="0"/>
            <a:ext cx="850104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F: minor allele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162648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équence allél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une mesure de la fréquence relative d'un allèle à un locus précis dans une popu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ituellement, on l'exprime comme une proportion ou un pourcent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684360" y="344592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: fréquences des trois génotypes à un l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rcRect l="14466" t="0" r="9674" b="0"/>
          <a:stretch/>
        </p:blipFill>
        <p:spPr>
          <a:xfrm>
            <a:off x="1547640" y="4005360"/>
            <a:ext cx="3024360" cy="779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5221440" y="4292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Fréquence de l'allèl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2"/>
          <a:srcRect l="15008" t="9551" r="10022" b="0"/>
          <a:stretch/>
        </p:blipFill>
        <p:spPr>
          <a:xfrm>
            <a:off x="1476360" y="5013360"/>
            <a:ext cx="287964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5148360" y="5229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Fréquence de l'allèl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258920" y="623736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+q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826920" y="4869000"/>
            <a:ext cx="7705800" cy="107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89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rdy–Weinberg equilibrium 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W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2720" y="1548360"/>
            <a:ext cx="806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 théorie qui postule qu'il y a u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équilib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équence des allèles et des génotypes au cours des génération ( les fréquences restent consta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39640" y="577404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équilibre : La loi de distribution génotypique est donc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² + q² + 2 pq =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19320" y="2548800"/>
            <a:ext cx="882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lques hypothèses pour que l'équilibre exis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opulation est de taille infi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èces diploïde et reproduction sexu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anmixie (croisements aléatoires entre individus) généralisée recouvre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quiprobabilité des gamètes : pangam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ncontre des gamètes au hasard ou formation aléatoire des couple:Panmix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sence de mutation sur les allèles considér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ence de sélection d'individ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générations ne se chevauchent 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iation de l'équilibr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écart par rapport à la loi de Hardy-Weinberg est estimé grâce au Test du χ² de Pearson, en compar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tructure des fréquences génotypiques obtenues à partir des données observ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x fréquences calculées selon la loi de Hardy-Weinber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11280" y="544500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Ps avec un pvalue de HWE  &lt; 1E-6 sont généralement supprimés de l'analyse car cela signifie qu'on rejette l'hypothèse "Dans la population, les fréquences génotypiques et alléliques sont  constantes (en équilibre)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 1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4127400" cy="609480"/>
          </a:xfrm>
          <a:prstGeom prst="rect">
            <a:avLst/>
          </a:prstGeom>
          <a:ln w="0">
            <a:noFill/>
          </a:ln>
        </p:spPr>
      </p:pic>
      <p:sp>
        <p:nvSpPr>
          <p:cNvPr id="108" name="ZoneTexte 2"/>
          <p:cNvSpPr/>
          <p:nvPr/>
        </p:nvSpPr>
        <p:spPr>
          <a:xfrm>
            <a:off x="826920" y="47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tage des génotypes observés (O), déduction des fréquences allél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3"/>
          <p:cNvSpPr/>
          <p:nvPr/>
        </p:nvSpPr>
        <p:spPr>
          <a:xfrm>
            <a:off x="1116000" y="126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593400" y="12682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 = 1 −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5"/>
          <p:cNvSpPr/>
          <p:nvPr/>
        </p:nvSpPr>
        <p:spPr>
          <a:xfrm>
            <a:off x="6012000" y="126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"/>
          <p:cNvPicPr/>
          <p:nvPr/>
        </p:nvPicPr>
        <p:blipFill>
          <a:blip r:embed="rId2"/>
          <a:srcRect l="0" t="0" r="61867" b="0"/>
          <a:stretch/>
        </p:blipFill>
        <p:spPr>
          <a:xfrm>
            <a:off x="1042920" y="2637000"/>
            <a:ext cx="1735200" cy="291960"/>
          </a:xfrm>
          <a:prstGeom prst="rect">
            <a:avLst/>
          </a:prstGeom>
          <a:ln w="0">
            <a:noFill/>
          </a:ln>
        </p:spPr>
      </p:pic>
      <p:pic>
        <p:nvPicPr>
          <p:cNvPr id="113" name="Image 7" descr=""/>
          <p:cNvPicPr/>
          <p:nvPr/>
        </p:nvPicPr>
        <p:blipFill>
          <a:blip r:embed="rId3"/>
          <a:srcRect l="0" t="0" r="68064" b="899"/>
          <a:stretch/>
        </p:blipFill>
        <p:spPr>
          <a:xfrm>
            <a:off x="1014480" y="2997360"/>
            <a:ext cx="2122560" cy="263520"/>
          </a:xfrm>
          <a:prstGeom prst="rect">
            <a:avLst/>
          </a:prstGeom>
          <a:ln w="0">
            <a:noFill/>
          </a:ln>
        </p:spPr>
      </p:pic>
      <p:pic>
        <p:nvPicPr>
          <p:cNvPr id="114" name="Image 8" descr=""/>
          <p:cNvPicPr/>
          <p:nvPr/>
        </p:nvPicPr>
        <p:blipFill>
          <a:blip r:embed="rId4"/>
          <a:srcRect l="0" t="0" r="60332" b="-657"/>
          <a:stretch/>
        </p:blipFill>
        <p:spPr>
          <a:xfrm>
            <a:off x="1049400" y="3351240"/>
            <a:ext cx="1606320" cy="293760"/>
          </a:xfrm>
          <a:prstGeom prst="rect">
            <a:avLst/>
          </a:prstGeom>
          <a:ln w="0">
            <a:noFill/>
          </a:ln>
        </p:spPr>
      </p:pic>
      <p:sp>
        <p:nvSpPr>
          <p:cNvPr id="115" name="ZoneTexte 9"/>
          <p:cNvSpPr/>
          <p:nvPr/>
        </p:nvSpPr>
        <p:spPr>
          <a:xfrm>
            <a:off x="900000" y="2195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lcul des génotypes attendus (E) si H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age 10" descr=""/>
          <p:cNvPicPr/>
          <p:nvPr/>
        </p:nvPicPr>
        <p:blipFill>
          <a:blip r:embed="rId5"/>
          <a:stretch/>
        </p:blipFill>
        <p:spPr>
          <a:xfrm>
            <a:off x="1619280" y="4869000"/>
            <a:ext cx="1625400" cy="546120"/>
          </a:xfrm>
          <a:prstGeom prst="rect">
            <a:avLst/>
          </a:prstGeom>
          <a:ln w="0">
            <a:noFill/>
          </a:ln>
        </p:spPr>
      </p:pic>
      <p:sp>
        <p:nvSpPr>
          <p:cNvPr id="117" name="ZoneTexte 11"/>
          <p:cNvSpPr/>
          <p:nvPr/>
        </p:nvSpPr>
        <p:spPr>
          <a:xfrm>
            <a:off x="900000" y="4292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du χ²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1158120" y="4941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χ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4211640" y="4292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à n-1 degré de liberté (ddl), où n est le nombre de classes (allè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euil de signification à 5% du χ², pour 1 ddl, est à 3.8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la valeur du χ² obtenue &lt; à 3.84, l'hypothèse nulle est non rejetée donc la population étudiée suit la loi de Hardy-Wein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539640" y="22395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 si la fréquence des gamètes porteurs des allèles de deux locus différents A et B est différente du produit des fréquences des allèles c'est-à-dire s'il y a association préférentielle entre deux allè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kage Desequilibrium (LD): Déséquilibre de Liais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1"/>
          <a:srcRect l="5536" t="17540" r="5126" b="8629"/>
          <a:stretch/>
        </p:blipFill>
        <p:spPr>
          <a:xfrm>
            <a:off x="106200" y="404640"/>
            <a:ext cx="8713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7374" t="18453" r="4802" b="19145"/>
          <a:stretch/>
        </p:blipFill>
        <p:spPr>
          <a:xfrm>
            <a:off x="250920" y="981000"/>
            <a:ext cx="85662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kage Dis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0720" y="4800600"/>
            <a:ext cx="750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rkers close together on chromosomes are often transmitted together, yielding a non-zero correlation between the all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916200" y="189396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Arial"/>
              </a:rPr>
              <a:t>Mar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2028960" y="2268360"/>
            <a:ext cx="56386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432880" y="18111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99"/>
                </a:solidFill>
                <a:latin typeface="Tahoma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247200" y="18111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99"/>
                </a:solidFill>
                <a:latin typeface="Tahoma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771080" y="18111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99"/>
                </a:solidFill>
                <a:latin typeface="Tahoma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7206480" y="181116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99"/>
                </a:solidFill>
                <a:latin typeface="Tahoma"/>
                <a:ea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1096920" y="2343240"/>
            <a:ext cx="4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Arial"/>
              </a:rPr>
              <a:t>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6569640" y="177336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Tahoma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2"/>
          <p:cNvSpPr/>
          <p:nvPr/>
        </p:nvSpPr>
        <p:spPr>
          <a:xfrm flipV="1">
            <a:off x="2533680" y="2530440"/>
            <a:ext cx="863640" cy="25704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0" y="240"/>
                </a:moveTo>
                <a:cubicBezTo>
                  <a:pt x="80" y="120"/>
                  <a:pt x="160" y="0"/>
                  <a:pt x="240" y="0"/>
                </a:cubicBezTo>
                <a:cubicBezTo>
                  <a:pt x="320" y="0"/>
                  <a:pt x="400" y="120"/>
                  <a:pt x="48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3"/>
          <p:cNvSpPr/>
          <p:nvPr/>
        </p:nvSpPr>
        <p:spPr>
          <a:xfrm flipV="1">
            <a:off x="3397320" y="2530440"/>
            <a:ext cx="1512720" cy="25704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0" y="240"/>
                </a:moveTo>
                <a:cubicBezTo>
                  <a:pt x="80" y="120"/>
                  <a:pt x="160" y="0"/>
                  <a:pt x="240" y="0"/>
                </a:cubicBezTo>
                <a:cubicBezTo>
                  <a:pt x="320" y="0"/>
                  <a:pt x="400" y="120"/>
                  <a:pt x="48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4"/>
          <p:cNvSpPr/>
          <p:nvPr/>
        </p:nvSpPr>
        <p:spPr>
          <a:xfrm flipV="1">
            <a:off x="4910040" y="2530440"/>
            <a:ext cx="2448000" cy="25704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0" y="240"/>
                </a:moveTo>
                <a:cubicBezTo>
                  <a:pt x="80" y="120"/>
                  <a:pt x="160" y="0"/>
                  <a:pt x="240" y="0"/>
                </a:cubicBezTo>
                <a:cubicBezTo>
                  <a:pt x="320" y="0"/>
                  <a:pt x="400" y="120"/>
                  <a:pt x="48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5"/>
          <p:cNvSpPr/>
          <p:nvPr/>
        </p:nvSpPr>
        <p:spPr>
          <a:xfrm flipV="1">
            <a:off x="3397320" y="2673720"/>
            <a:ext cx="3960720" cy="57636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0" y="240"/>
                </a:moveTo>
                <a:cubicBezTo>
                  <a:pt x="80" y="120"/>
                  <a:pt x="160" y="0"/>
                  <a:pt x="240" y="0"/>
                </a:cubicBezTo>
                <a:cubicBezTo>
                  <a:pt x="320" y="0"/>
                  <a:pt x="400" y="120"/>
                  <a:pt x="48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6"/>
          <p:cNvSpPr/>
          <p:nvPr/>
        </p:nvSpPr>
        <p:spPr>
          <a:xfrm flipV="1">
            <a:off x="2533680" y="2674080"/>
            <a:ext cx="2376360" cy="57636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0" y="240"/>
                </a:moveTo>
                <a:cubicBezTo>
                  <a:pt x="80" y="120"/>
                  <a:pt x="160" y="0"/>
                  <a:pt x="240" y="0"/>
                </a:cubicBezTo>
                <a:cubicBezTo>
                  <a:pt x="320" y="0"/>
                  <a:pt x="400" y="120"/>
                  <a:pt x="48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7"/>
          <p:cNvSpPr/>
          <p:nvPr/>
        </p:nvSpPr>
        <p:spPr>
          <a:xfrm flipV="1">
            <a:off x="2604960" y="3034440"/>
            <a:ext cx="4681800" cy="57636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0" y="240"/>
                </a:moveTo>
                <a:cubicBezTo>
                  <a:pt x="80" y="120"/>
                  <a:pt x="160" y="0"/>
                  <a:pt x="240" y="0"/>
                </a:cubicBezTo>
                <a:cubicBezTo>
                  <a:pt x="320" y="0"/>
                  <a:pt x="400" y="120"/>
                  <a:pt x="48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2411280" y="213192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3276720" y="2131920"/>
            <a:ext cx="28872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0"/>
          <p:cNvSpPr/>
          <p:nvPr/>
        </p:nvSpPr>
        <p:spPr>
          <a:xfrm>
            <a:off x="4788000" y="2131920"/>
            <a:ext cx="28872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1"/>
          <p:cNvSpPr/>
          <p:nvPr/>
        </p:nvSpPr>
        <p:spPr>
          <a:xfrm>
            <a:off x="7236000" y="2131920"/>
            <a:ext cx="28872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6588000" y="2131920"/>
            <a:ext cx="28908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rcRect l="19192" t="19962" r="18424" b="22828"/>
          <a:stretch/>
        </p:blipFill>
        <p:spPr>
          <a:xfrm>
            <a:off x="250920" y="333360"/>
            <a:ext cx="8497800" cy="6234120"/>
          </a:xfrm>
          <a:prstGeom prst="rect">
            <a:avLst/>
          </a:prstGeom>
          <a:ln w="0">
            <a:noFill/>
          </a:ln>
        </p:spPr>
      </p:pic>
      <p:sp>
        <p:nvSpPr>
          <p:cNvPr id="51" name="Oval 5"/>
          <p:cNvSpPr/>
          <p:nvPr/>
        </p:nvSpPr>
        <p:spPr>
          <a:xfrm>
            <a:off x="4643280" y="2060640"/>
            <a:ext cx="165744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5076720" cy="2278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efficient de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5940360" y="5157720"/>
            <a:ext cx="1728720" cy="925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2843280" y="5013360"/>
            <a:ext cx="2376360" cy="1271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1258920" y="551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X (x_1, \ldots, x_n)"/>
          <p:cNvPicPr/>
          <p:nvPr/>
        </p:nvPicPr>
        <p:blipFill>
          <a:blip r:embed="rId4"/>
          <a:stretch/>
        </p:blipFill>
        <p:spPr>
          <a:xfrm>
            <a:off x="2340000" y="1484280"/>
            <a:ext cx="2448000" cy="450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Y (y_1, \ldots, y_n)"/>
          <p:cNvPicPr/>
          <p:nvPr/>
        </p:nvPicPr>
        <p:blipFill>
          <a:blip r:embed="rId5"/>
          <a:stretch/>
        </p:blipFill>
        <p:spPr>
          <a:xfrm>
            <a:off x="5148360" y="1484280"/>
            <a:ext cx="2448000" cy="4716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2"/>
          <p:cNvSpPr/>
          <p:nvPr/>
        </p:nvSpPr>
        <p:spPr>
          <a:xfrm>
            <a:off x="110160" y="14112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ux vecteu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rrection de tests mult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 nombreux tests sont effectu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 la probabilité d’avoir un faux positif par ch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onferroni correction (diminue le seuil de significativité d’1 test pour que l’ensemble des tests ait un seuil &lt; à alpha 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uil  alpha pour 1 test: 0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uil alpha pour plusieurs tests (n): alpha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gmente la probabilité d’avoir des faux nég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nalyse en composantes principales (ACP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ACP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iste à transformer des variables liées entre elles (dites "corrélées" en statistique) en nouvelles variables indépendantes les unes des autres (donc "non corrélées"): "composantes principales", ou a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 de réduire l'information en un nombre de composantes plus limité que le nombre initial de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proche géométrique (représentation des variables dans un nouvel espace géométrique selon des directions d'inertie maxim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proche statistique (recherche d'axes indépendants expliquant au mieux la variabilité - la variance - des donnée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stratification: PCA (A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0" y="4005360"/>
            <a:ext cx="910584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alysis of Genotypes on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419360" cy="41911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471240" y="5662440"/>
            <a:ext cx="835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nciple Component Analysis reveals SNP-ve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aining largest variation in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Example: 2PCs for 3d-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5073480" y="6461280"/>
            <a:ext cx="40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  <a:ea typeface="Arial"/>
              </a:rPr>
              <a:t>http://ordination.okstate.edu/PCA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038560" cy="44607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980000" y="5867280"/>
            <a:ext cx="48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w data points: {a, …, z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054160" y="919080"/>
            <a:ext cx="4513320" cy="5029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Example: 2PCs for 3d-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5073480" y="6461280"/>
            <a:ext cx="40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  <a:ea typeface="Arial"/>
              </a:rPr>
              <a:t>http://ordination.okstate.edu/PCA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50120" y="5911920"/>
            <a:ext cx="866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rmalized data points: zero mean (&amp; unit std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513320" cy="50292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Example: 2PCs for 3d-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073480" y="6461280"/>
            <a:ext cx="40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  <a:ea typeface="Arial"/>
              </a:rPr>
              <a:t>http://ordination.okstate.edu/PCA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75640" y="5715000"/>
            <a:ext cx="803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axes with the most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6019920" y="1752480"/>
            <a:ext cx="2590560" cy="914400"/>
          </a:xfrm>
          <a:prstGeom prst="wedgeRoundRectCallout">
            <a:avLst>
              <a:gd name="adj1" fmla="val -36578"/>
              <a:gd name="adj2" fmla="val -8784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variance is along PC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228600" y="1143000"/>
            <a:ext cx="2743200" cy="1828800"/>
          </a:xfrm>
          <a:prstGeom prst="wedgeRoundRectCallout">
            <a:avLst>
              <a:gd name="adj1" fmla="val 61458"/>
              <a:gd name="adj2" fmla="val 5789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irection of most variance perpendicular to PCA1 defines PC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600200" y="1314360"/>
            <a:ext cx="5867280" cy="50119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thnic groups cluster according to geographic di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609840" cy="590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3"/>
          <a:stretch/>
        </p:blipFill>
        <p:spPr>
          <a:xfrm>
            <a:off x="4876920" y="1600200"/>
            <a:ext cx="609480" cy="398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"/>
          <p:cNvPicPr/>
          <p:nvPr/>
        </p:nvPicPr>
        <p:blipFill>
          <a:blip r:embed="rId4"/>
          <a:stretch/>
        </p:blipFill>
        <p:spPr>
          <a:xfrm>
            <a:off x="1752480" y="4114800"/>
            <a:ext cx="533520" cy="347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5"/>
          <a:stretch/>
        </p:blipFill>
        <p:spPr>
          <a:xfrm>
            <a:off x="5105520" y="4343400"/>
            <a:ext cx="533160" cy="343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6"/>
          <a:stretch/>
        </p:blipFill>
        <p:spPr>
          <a:xfrm>
            <a:off x="4952880" y="5562720"/>
            <a:ext cx="609840" cy="415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7"/>
          <a:stretch/>
        </p:blipFill>
        <p:spPr>
          <a:xfrm>
            <a:off x="6781680" y="4572000"/>
            <a:ext cx="457200" cy="2998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0"/>
          <p:cNvSpPr/>
          <p:nvPr/>
        </p:nvSpPr>
        <p:spPr>
          <a:xfrm>
            <a:off x="2653920" y="63993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5694120" y="63993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 rot="16200000">
            <a:off x="754920" y="47646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C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 rot="16200000">
            <a:off x="731160" y="24019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C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5410080" cy="43686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114480" y="57240"/>
            <a:ext cx="89089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CA of POPRES coh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0" y="5532480"/>
            <a:ext cx="8858160" cy="1154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3"/>
          <a:stretch/>
        </p:blipFill>
        <p:spPr>
          <a:xfrm>
            <a:off x="0" y="6620040"/>
            <a:ext cx="9144000" cy="2379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4010040" y="1295280"/>
            <a:ext cx="19810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4"/>
          <a:srcRect l="66200" t="0" r="0" b="63378"/>
          <a:stretch/>
        </p:blipFill>
        <p:spPr>
          <a:xfrm>
            <a:off x="4724280" y="1676520"/>
            <a:ext cx="3886200" cy="34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273560" y="1744560"/>
            <a:ext cx="304920" cy="4876920"/>
          </a:xfrm>
          <a:prstGeom prst="rect">
            <a:avLst/>
          </a:prstGeom>
          <a:solidFill>
            <a:srgbClr val="969696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086600" y="1727280"/>
            <a:ext cx="304920" cy="4876560"/>
          </a:xfrm>
          <a:prstGeom prst="rect">
            <a:avLst/>
          </a:prstGeom>
          <a:solidFill>
            <a:srgbClr val="969696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438280" y="1727280"/>
            <a:ext cx="304920" cy="4876560"/>
          </a:xfrm>
          <a:prstGeom prst="rect">
            <a:avLst/>
          </a:prstGeom>
          <a:solidFill>
            <a:srgbClr val="969696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380880" y="1600200"/>
            <a:ext cx="7942320" cy="1096920"/>
            <a:chOff x="380880" y="1600200"/>
            <a:chExt cx="7942320" cy="1096920"/>
          </a:xfrm>
        </p:grpSpPr>
        <p:pic>
          <p:nvPicPr>
            <p:cNvPr id="56" name="Picture 6" descr="photo"/>
            <p:cNvPicPr/>
            <p:nvPr/>
          </p:nvPicPr>
          <p:blipFill>
            <a:blip r:embed="rId1"/>
            <a:srcRect l="0" t="0" r="0" b="10800"/>
            <a:stretch/>
          </p:blipFill>
          <p:spPr>
            <a:xfrm>
              <a:off x="380880" y="1600200"/>
              <a:ext cx="8208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7"/>
            <p:cNvSpPr/>
            <p:nvPr/>
          </p:nvSpPr>
          <p:spPr>
            <a:xfrm>
              <a:off x="1297080" y="1986120"/>
              <a:ext cx="70261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ATTGCAA</a:t>
              </a:r>
              <a:r>
                <a:rPr b="1" lang="fr-FR" sz="1800" spc="-1" strike="noStrike">
                  <a:solidFill>
                    <a:srgbClr val="ff0000"/>
                  </a:solidFill>
                  <a:latin typeface="Arial"/>
                  <a:ea typeface="ヒラギノ角ゴ Pro W3"/>
                </a:rPr>
                <a:t>T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CCGTGG...ATC</a:t>
              </a:r>
              <a:r>
                <a:rPr b="1" lang="fr-FR" sz="1800" spc="-1" strike="noStrike">
                  <a:solidFill>
                    <a:srgbClr val="ff0000"/>
                  </a:solidFill>
                  <a:latin typeface="Arial"/>
                  <a:ea typeface="ヒラギノ角ゴ Pro W3"/>
                </a:rPr>
                <a:t>G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AGCCA…TACGATTGCA</a:t>
              </a:r>
              <a:r>
                <a:rPr b="1" lang="fr-FR" sz="1800" spc="-1" strike="noStrike">
                  <a:solidFill>
                    <a:srgbClr val="ff0000"/>
                  </a:solidFill>
                  <a:latin typeface="Arial"/>
                  <a:ea typeface="ヒラギノ角ゴ Pro W3"/>
                </a:rPr>
                <a:t>C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GCCG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8"/>
          <p:cNvGrpSpPr/>
          <p:nvPr/>
        </p:nvGrpSpPr>
        <p:grpSpPr>
          <a:xfrm>
            <a:off x="380880" y="2808360"/>
            <a:ext cx="7942320" cy="822240"/>
            <a:chOff x="380880" y="2808360"/>
            <a:chExt cx="7942320" cy="822240"/>
          </a:xfrm>
        </p:grpSpPr>
        <p:pic>
          <p:nvPicPr>
            <p:cNvPr id="59" name="Picture 9" descr="img_md_red_06"/>
            <p:cNvPicPr/>
            <p:nvPr/>
          </p:nvPicPr>
          <p:blipFill>
            <a:blip r:embed="rId2"/>
            <a:srcRect l="18676" t="0" r="22044" b="53951"/>
            <a:stretch/>
          </p:blipFill>
          <p:spPr>
            <a:xfrm>
              <a:off x="380880" y="2808360"/>
              <a:ext cx="8226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ectangle 10"/>
            <p:cNvSpPr/>
            <p:nvPr/>
          </p:nvSpPr>
          <p:spPr>
            <a:xfrm>
              <a:off x="1297080" y="3056040"/>
              <a:ext cx="70261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ATTGCAA</a:t>
              </a:r>
              <a:r>
                <a:rPr b="1" lang="fr-FR" sz="1800" spc="-1" strike="noStrike">
                  <a:solidFill>
                    <a:srgbClr val="ffff66"/>
                  </a:solidFill>
                  <a:latin typeface="Arial"/>
                  <a:ea typeface="ヒラギノ角ゴ Pro W3"/>
                </a:rPr>
                <a:t>G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CCGTGG...ATC</a:t>
              </a:r>
              <a:r>
                <a:rPr b="1" lang="fr-FR" sz="1800" spc="-1" strike="noStrike">
                  <a:solidFill>
                    <a:srgbClr val="ffff66"/>
                  </a:solidFill>
                  <a:latin typeface="Arial"/>
                  <a:ea typeface="ヒラギノ角ゴ Pro W3"/>
                </a:rPr>
                <a:t>T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AGCCA…TACGATTGCA</a:t>
              </a:r>
              <a:r>
                <a:rPr b="1" lang="fr-FR" sz="1800" spc="-1" strike="noStrike">
                  <a:solidFill>
                    <a:srgbClr val="ffff66"/>
                  </a:solidFill>
                  <a:latin typeface="Arial"/>
                  <a:ea typeface="ヒラギノ角ゴ Pro W3"/>
                </a:rPr>
                <a:t>A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GCCG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388800" y="3743280"/>
            <a:ext cx="7934400" cy="915840"/>
            <a:chOff x="388800" y="3743280"/>
            <a:chExt cx="7934400" cy="915840"/>
          </a:xfrm>
        </p:grpSpPr>
        <p:pic>
          <p:nvPicPr>
            <p:cNvPr id="62" name="Picture 12" descr="jpii2"/>
            <p:cNvPicPr/>
            <p:nvPr/>
          </p:nvPicPr>
          <p:blipFill>
            <a:blip r:embed="rId3"/>
            <a:srcRect l="11496" t="0" r="0" b="24367"/>
            <a:stretch/>
          </p:blipFill>
          <p:spPr>
            <a:xfrm>
              <a:off x="388800" y="3743280"/>
              <a:ext cx="8067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Rectangle 13"/>
            <p:cNvSpPr/>
            <p:nvPr/>
          </p:nvSpPr>
          <p:spPr>
            <a:xfrm>
              <a:off x="1297080" y="4038480"/>
              <a:ext cx="70261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ATTGCAA</a:t>
              </a:r>
              <a:r>
                <a:rPr b="1" lang="fr-FR" sz="1800" spc="-1" strike="noStrike">
                  <a:solidFill>
                    <a:srgbClr val="ffff66"/>
                  </a:solidFill>
                  <a:latin typeface="Arial"/>
                  <a:ea typeface="ヒラギノ角ゴ Pro W3"/>
                </a:rPr>
                <a:t>G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CCGTGG...ATC</a:t>
              </a:r>
              <a:r>
                <a:rPr b="1" lang="fr-FR" sz="1800" spc="-1" strike="noStrike">
                  <a:solidFill>
                    <a:srgbClr val="ffff66"/>
                  </a:solidFill>
                  <a:latin typeface="Arial"/>
                  <a:ea typeface="ヒラギノ角ゴ Pro W3"/>
                </a:rPr>
                <a:t>T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AGCCA…TACGATTGCA</a:t>
              </a:r>
              <a:r>
                <a:rPr b="1" lang="fr-FR" sz="1800" spc="-1" strike="noStrike">
                  <a:solidFill>
                    <a:srgbClr val="ffff66"/>
                  </a:solidFill>
                  <a:latin typeface="Arial"/>
                  <a:ea typeface="ヒラギノ角ゴ Pro W3"/>
                </a:rPr>
                <a:t>A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GCCG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4"/>
          <p:cNvGrpSpPr/>
          <p:nvPr/>
        </p:nvGrpSpPr>
        <p:grpSpPr>
          <a:xfrm>
            <a:off x="399960" y="4770360"/>
            <a:ext cx="7923240" cy="949320"/>
            <a:chOff x="399960" y="4770360"/>
            <a:chExt cx="7923240" cy="949320"/>
          </a:xfrm>
        </p:grpSpPr>
        <p:pic>
          <p:nvPicPr>
            <p:cNvPr id="65" name="Picture 15" descr="dave2"/>
            <p:cNvPicPr/>
            <p:nvPr/>
          </p:nvPicPr>
          <p:blipFill>
            <a:blip r:embed="rId4"/>
            <a:srcRect l="10285" t="4068" r="5143" b="4068"/>
            <a:stretch/>
          </p:blipFill>
          <p:spPr>
            <a:xfrm>
              <a:off x="399960" y="4770360"/>
              <a:ext cx="80352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16"/>
            <p:cNvSpPr/>
            <p:nvPr/>
          </p:nvSpPr>
          <p:spPr>
            <a:xfrm>
              <a:off x="1297080" y="5083200"/>
              <a:ext cx="70261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ATTGCAA</a:t>
              </a:r>
              <a:r>
                <a:rPr b="1" lang="fr-FR" sz="1800" spc="-1" strike="noStrike">
                  <a:solidFill>
                    <a:srgbClr val="ff0000"/>
                  </a:solidFill>
                  <a:latin typeface="Arial"/>
                  <a:ea typeface="ヒラギノ角ゴ Pro W3"/>
                </a:rPr>
                <a:t>T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CCGTGG...ATC</a:t>
              </a:r>
              <a:r>
                <a:rPr b="1" lang="fr-FR" sz="1800" spc="-1" strike="noStrike">
                  <a:solidFill>
                    <a:srgbClr val="ff0000"/>
                  </a:solidFill>
                  <a:latin typeface="Arial"/>
                  <a:ea typeface="ヒラギノ角ゴ Pro W3"/>
                </a:rPr>
                <a:t>G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AGCCA…TACGATTGCA</a:t>
              </a:r>
              <a:r>
                <a:rPr b="1" lang="fr-FR" sz="1800" spc="-1" strike="noStrike">
                  <a:solidFill>
                    <a:srgbClr val="ff0000"/>
                  </a:solidFill>
                  <a:latin typeface="Arial"/>
                  <a:ea typeface="ヒラギノ角ゴ Pro W3"/>
                </a:rPr>
                <a:t>C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GCCG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7"/>
          <p:cNvGrpSpPr/>
          <p:nvPr/>
        </p:nvGrpSpPr>
        <p:grpSpPr>
          <a:xfrm>
            <a:off x="399960" y="5832360"/>
            <a:ext cx="7923240" cy="949320"/>
            <a:chOff x="399960" y="5832360"/>
            <a:chExt cx="7923240" cy="949320"/>
          </a:xfrm>
        </p:grpSpPr>
        <p:pic>
          <p:nvPicPr>
            <p:cNvPr id="68" name="Picture 18" descr="Official portrait of the Queen"/>
            <p:cNvPicPr/>
            <p:nvPr/>
          </p:nvPicPr>
          <p:blipFill>
            <a:blip r:embed="rId5"/>
            <a:srcRect l="0" t="0" r="14543" b="10608"/>
            <a:stretch/>
          </p:blipFill>
          <p:spPr>
            <a:xfrm>
              <a:off x="399960" y="5832360"/>
              <a:ext cx="80352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Rectangle 19"/>
            <p:cNvSpPr/>
            <p:nvPr/>
          </p:nvSpPr>
          <p:spPr>
            <a:xfrm>
              <a:off x="1297080" y="6145200"/>
              <a:ext cx="70261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ATTGCAA</a:t>
              </a:r>
              <a:r>
                <a:rPr b="1" lang="fr-FR" sz="1800" spc="-1" strike="noStrike">
                  <a:solidFill>
                    <a:srgbClr val="ffff66"/>
                  </a:solidFill>
                  <a:latin typeface="Arial"/>
                  <a:ea typeface="ヒラギノ角ゴ Pro W3"/>
                </a:rPr>
                <a:t>G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CCGTGG...ATC</a:t>
              </a:r>
              <a:r>
                <a:rPr b="1" lang="fr-FR" sz="1800" spc="-1" strike="noStrike">
                  <a:solidFill>
                    <a:srgbClr val="ffff66"/>
                  </a:solidFill>
                  <a:latin typeface="Arial"/>
                  <a:ea typeface="ヒラギノ角ゴ Pro W3"/>
                </a:rPr>
                <a:t>T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AGCCA…TACGATTGCA</a:t>
              </a:r>
              <a:r>
                <a:rPr b="1" lang="fr-FR" sz="1800" spc="-1" strike="noStrike">
                  <a:solidFill>
                    <a:srgbClr val="ffff66"/>
                  </a:solidFill>
                  <a:latin typeface="Arial"/>
                  <a:ea typeface="ヒラギノ角ゴ Pro W3"/>
                </a:rPr>
                <a:t>A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GCCG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20"/>
          <p:cNvSpPr/>
          <p:nvPr/>
        </p:nvSpPr>
        <p:spPr>
          <a:xfrm>
            <a:off x="304920" y="152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P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gle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cleotide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lymorphis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rcRect l="19192" t="12145" r="3288" b="9400"/>
          <a:stretch/>
        </p:blipFill>
        <p:spPr>
          <a:xfrm>
            <a:off x="1908000" y="1104840"/>
            <a:ext cx="6696360" cy="54212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P array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53298" t="48070" r="1346" b="5168"/>
          <a:stretch/>
        </p:blipFill>
        <p:spPr>
          <a:xfrm>
            <a:off x="1762200" y="549360"/>
            <a:ext cx="5257800" cy="4732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80880" y="6076800"/>
            <a:ext cx="8506080" cy="781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2745720" y="5334120"/>
            <a:ext cx="35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nsity of Allele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 rot="16200000">
            <a:off x="-551520" y="2778840"/>
            <a:ext cx="34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nsity of Allel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8099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22860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Genotypes are missing at all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6600" y="971640"/>
            <a:ext cx="9010800" cy="55054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u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different uncertain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wo easy ways dealing with uncertain geno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notype Calling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he most likely genotype and continue as if it is tru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10%, 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20%  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70% =&gt; G=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an genotyp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eighted average genoty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10%, 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20%  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70% =&gt; G=1.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246320" y="277920"/>
            <a:ext cx="664992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6:14:58Z</dcterms:created>
  <dc:creator>Diana Marek</dc:creator>
  <dc:description/>
  <dc:language>en-US</dc:language>
  <cp:lastModifiedBy>tanguy</cp:lastModifiedBy>
  <dcterms:modified xsi:type="dcterms:W3CDTF">2012-03-16T02:45:57Z</dcterms:modified>
  <cp:revision>54</cp:revision>
  <dc:subject/>
  <dc:title>Genotypic data: concepts and meanings</dc:title>
</cp:coreProperties>
</file>